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FB7-FCEE-4A9F-955A-8DC58917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994-1902-4BEE-8170-14796576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F2A-F14F-4053-870D-F43F0280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733-1ACD-43D9-BF40-AF3037F1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DAC-5BEE-4128-A92B-9765FF4E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EA9-B631-4528-BB96-CB5FC619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827-20DB-4696-B040-6CEF47D9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4B8-ECDD-4545-8900-3630AA5B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CE7-6440-4153-8BF5-F2C7E146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1CF-59D8-4809-83FF-51B89047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AF1-08A7-4540-B60D-0F86A927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4C0-52A5-446C-AC85-8D34F2E1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0131-3EF5-48DF-9E99-CC9C4B04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ooling 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2520" y="28195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792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24852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848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391160" cy="3917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762012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981080" y="380880"/>
            <a:ext cx="37339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96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228456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696080" cy="289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038480" y="419112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895480" y="4800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ymbol"/>
              </a:rPr>
              <a:t>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ymbol"/>
              <a:ea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7:12:34Z</dcterms:modified>
  <cp:revision>77</cp:revision>
  <dc:subject/>
  <dc:title>The Art in the State of the Art</dc:title>
</cp:coreProperties>
</file>